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5CCF-B640-414D-8AAD-89D2A10EA53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 alternative here is to hand out cut up questions in a pile. In pairs, learners turn over questions and ask/answer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A7F2-4CA4-4CFE-8B46-2241AAAC955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 vary this, you can swop roles halfway through, so the journalist becomes the doctor and the doctor becomes the journa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4AAA-C663-407F-854C-6BA52839ADD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 alternative is to print out the interview and cut it up. Then learners match the answers to the ques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253F-BB3E-4816-A8CB-ABA104A988C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may need a review of the format and language of a formal le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9637-DC59-47F1-8F77-0D8FC952CAA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1-c   2-f   3-a   4-e   5-b   6-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DFB0-AF1B-49C7-A8D4-E5B4B8AB81A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other option is to use the website link with an option to zoom in and out: http://www.newint.org/features/2012/09/18/illegal-drugs-facts-infographic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0917-B9D1-4028-9B0A-50EB35837E6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tudents can read on-line or you could print out the text on handou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4E85-EE4D-4CF3-8C5B-EAB1932E787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an listen for errors and elicit corrections after the role-pl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F72C-B60E-445D-9244-CFF455241F6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0AA4-0F68-4A8C-B629-2DEEA0975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5ADA-45B7-4C70-85F5-583E417A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28C8-B192-4E41-B621-6C661F2BD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58D0-F808-4A84-A869-5D4DB73B1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1D38-5782-4089-9D2F-76F62AF2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C854-849E-434A-B4F0-191192B5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EB2B-2FE4-412B-9F2A-1F67264F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9E32-2C16-42C5-A6FA-4C2DF87F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DC49-7EC6-40E3-B6E1-821A7E42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5A56-B687-47F7-9FE2-B60AEC2C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2718-BBD0-4CF3-80B5-5BC6F2BD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A62A-FFA4-44F5-B43E-EC3584F6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9EF1-3974-4873-B59E-686DE869B430}" type="slidenum"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901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39280" y="4005360"/>
            <a:ext cx="79930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ook Antiqua"/>
              </a:rPr>
              <a:t>New Internationalist Easier English lesson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ook Antiqua"/>
              </a:rPr>
              <a:t>Upper Intermediate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0" name="Picture 3" descr="NI logo 2.jpg"/>
          <p:cNvPicPr/>
          <p:nvPr/>
        </p:nvPicPr>
        <p:blipFill>
          <a:blip r:embed="rId2"/>
          <a:stretch/>
        </p:blipFill>
        <p:spPr>
          <a:xfrm>
            <a:off x="5802480" y="476280"/>
            <a:ext cx="2277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-360" y="333000"/>
            <a:ext cx="86425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1) Why would making drugs legal make things better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2) Would making drugs legal increase the use of dangerous drugs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3) How could we protect children and young people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4) After drugs were made legal, how would you control them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5) We can make drugs legal. But isn’t it better to change the way people think?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6) Isn’t it true that drug takers can’t think clearly? So isn’t it a good idea to protect drug takers themselves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0" y="404280"/>
            <a:ext cx="85694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7) If drugs were legal, would there be a private free market for drugs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8) Would hard drugs become cheap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9) Should some drugs be illegal for health or social reasons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10) Is it possible there will still be a “black” market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11) Has anyone tried legalizing drugs and been successful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12) Would legalization happen everywhere quickly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13) Where can I find more information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3024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57200" y="3357360"/>
            <a:ext cx="822960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http://eewiki.newint.org/index.php/If_all_drugs_were_legal,_what_would_happen%3F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In pairs, write a letter to your country’s leader:   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- summarize some of the arguments for legalizing drugs 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- say if you think this should happen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- and why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412120" cy="14396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http://www.newint.org/features/2012/09/01/illegal-drugs/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http://www.newint.org/features/2012/09/01/drugs-legalization/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ook Antiqua"/>
              </a:rPr>
              <a:t>Introduction: speaking and vocabulary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ook Antiqua"/>
              </a:rPr>
              <a:t>Reading: for detail and for gist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ook Antiqua"/>
              </a:rPr>
              <a:t>Speaking: role-play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18120" indent="-488520">
              <a:spcBef>
                <a:spcPts val="1349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ook Antiqua"/>
              </a:rPr>
              <a:t>List all the illegal drugs you know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  <a:p>
            <a:pPr marL="618120" indent="-488520">
              <a:spcBef>
                <a:spcPts val="1349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ook Antiqua"/>
              </a:rPr>
              <a:t>List all the reasons you can think of for making illegal drugs legal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250560" y="1341000"/>
            <a:ext cx="4033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0880" indent="-51444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ecstasy, cocaine, heroin, cannabis, amphetamines, marijuana and opiu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650880" indent="-51444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prohibi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650880" indent="-51444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illici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650880" indent="-51444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legaliz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650880" indent="-51444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psycho-activ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650880" indent="-51444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decriminiliz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650880" indent="-514440">
              <a:spcBef>
                <a:spcPts val="649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650880" indent="-514440">
              <a:spcBef>
                <a:spcPts val="649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187880" y="1341360"/>
            <a:ext cx="47052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ook Antiqua"/>
              </a:rPr>
              <a:t>a) illega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ook Antiqua"/>
              </a:rPr>
              <a:t>b) makes your brain chang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ook Antiqua"/>
              </a:rPr>
              <a:t>c) these are illegal drug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ook Antiqua"/>
              </a:rPr>
              <a:t>d) making something no longer a crim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ook Antiqua"/>
              </a:rPr>
              <a:t>e) making something lega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ook Antiqua"/>
              </a:rPr>
              <a:t>f) not allowing something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0" y="263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The next slide shows lots of facts about drugs.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You have 5 minutes study this and try to remember as many facts about drugs as you can. Then tell each other.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9" name="Picture 3" descr="drugs info.jpg"/>
          <p:cNvPicPr/>
          <p:nvPr/>
        </p:nvPicPr>
        <p:blipFill>
          <a:blip r:embed="rId1"/>
          <a:stretch/>
        </p:blipFill>
        <p:spPr>
          <a:xfrm>
            <a:off x="4211640" y="196920"/>
            <a:ext cx="334980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044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7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61" name="Content Placeholder 3" descr="drugs info.jpg"/>
          <p:cNvPicPr/>
          <p:nvPr/>
        </p:nvPicPr>
        <p:blipFill>
          <a:blip r:embed="rId1"/>
          <a:stretch/>
        </p:blipFill>
        <p:spPr>
          <a:xfrm>
            <a:off x="47520" y="168120"/>
            <a:ext cx="90964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Find as many reasons as possible for legalizing or decriminalizing drugs: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http://eewiki.newint.org/index.php/Make_drugs_lega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Compare with other learners.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What questions do you have about drugs being made legal?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Write some questions in pairs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eg. If all drugs were legal, what would happen?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In pairs, A is a journalist and B is a doctor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A needs to interview the doctor about what would happen if all drugs were legal.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A ask and B answer some of the questions on the next 2 slides: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0T19:08:39Z</dcterms:created>
  <dc:creator>Mix</dc:creator>
  <dc:description/>
  <dc:language>en-US</dc:language>
  <cp:lastModifiedBy>Mix</cp:lastModifiedBy>
  <dcterms:modified xsi:type="dcterms:W3CDTF">2012-10-28T16:14:23Z</dcterms:modified>
  <cp:revision>19</cp:revision>
  <dc:subject/>
  <dc:title>DRUGS</dc:title>
</cp:coreProperties>
</file>